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2F6-9C88-49DC-8B72-301A8111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FB4-0E87-4215-B5BE-1B101355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5606-8C6D-41CC-B0DB-3DC12F17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F386-7869-49C1-99F1-2CADDC05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46A6-335B-432A-B509-5ABF693F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BA71-4485-419A-AEE6-F68F0384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3620-1E5D-4DE5-9A6E-4CA0DD46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B3D8-C9ED-414B-B221-D4013D8B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E22E-07E3-4366-9A63-25A418D9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A27A-F6D0-4A9E-80CB-33554E30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86C4-BD1E-478D-9CAB-1F08C333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91A-8FAD-4009-A69E-290C293E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21A8-2035-4125-A4C7-93FC7EB6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9513-3A8A-408E-AB33-92A48416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F99A-52C0-41A3-A52B-6F59736C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735F-D069-4FC7-934A-FBBA2A6A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DF49-957F-4F32-A124-793C6C36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811-35FA-4422-9661-1175882A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2A9C-EC51-4A6E-B4FD-A31260D5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50E-54C3-45B6-BEBA-8F844B98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16B-0C81-4F97-9BEC-242DE7A9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D9F-FB79-46AC-98AB-64346B3A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573-8766-4668-B5F0-364818AB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C67-4AAF-45DA-9A49-159061B0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7EC5-EE9E-4666-805F-F76A3BE91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5048-C035-4467-9838-BFA1E18114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A-ZVCjfWf8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838080" y="51055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utting Together the Pieces of Differenti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484440"/>
          </a:xfrm>
          <a:prstGeom prst="rect">
            <a:avLst/>
          </a:prstGeom>
          <a:solidFill>
            <a:srgbClr val="d8e1e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 reflection paragraph in noting which strategies from today you plan to try and how you plan to implement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5800" y="22860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losu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y a differentiation strategy this week-reflect in discussion thread on wiki how it worked and what you’d change next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ue on 4-17-12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Incorporate various models of co-teaching into an upcoming lesson plan-post a reflective journal on week 4 on wiki about the model(s)  you chose, why you chose them and what could have been done different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914400" y="304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Warm-Up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you already differentiate in your class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14400" y="304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02724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xplore aspects of differentiation and their applications for students in the co-taught classroo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14400" y="304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Brainstor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8653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y is differentiation especially important in a co-taught clas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31795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3000"/>
          </a:bodyPr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rpose for viewing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10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ow does the message of this video set the stage for differenti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59f07"/>
                </a:solidFill>
                <a:uFillTx/>
                <a:latin typeface="Tahoma"/>
                <a:hlinkClick r:id="rId1"/>
              </a:rPr>
              <a:t>http://www.youtube.com/watch?v=_A-ZVCjfWf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85800" y="2286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ideo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31795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tly complete the Bender Classroom Structure Questionnai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completing it, discuss the results with your part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8580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estionnai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31795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the pre-assessment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-Assessment, Differentiation, and Extension Menus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green light or stop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914400" y="152280"/>
            <a:ext cx="7086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-Assess Your Understand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94164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category, note whether you chose the green light or the stop sign.  Complete the activity in that box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should complete 3 activities (one for each category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85800" y="15228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580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ifferentiation Men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29509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Reading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Writing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Vocabulary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62120" y="152280"/>
            <a:ext cx="77724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fferentiation Strateg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21:27:20Z</dcterms:created>
  <dc:creator>fcps</dc:creator>
  <dc:description/>
  <cp:keywords/>
  <dc:language>en-US</dc:language>
  <cp:lastModifiedBy>Journell-Hoch,Cindy D</cp:lastModifiedBy>
  <dcterms:modified xsi:type="dcterms:W3CDTF">2012-04-10T15:31:24Z</dcterms:modified>
  <cp:revision>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33</vt:lpwstr>
  </property>
</Properties>
</file>